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68A79-FEA0-4585-A6F5-C075F3274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D64B0-D4D6-41A9-9B0F-92CE2915D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63E88-CDC8-4AAC-9568-0553C40CE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B7ECE-5E7E-4ED4-AFEC-6249BE8DD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439B8-915A-40B6-907D-737C39A5C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5A6AF-01D8-44A7-9F35-20EF1639A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E19BB-F2CA-4827-A9AE-8FD21DDE9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0F5A2-CD7C-47C5-AA2E-5B5B6B94B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20AF8-C0DA-414F-BB85-B621A011B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AD9BE-B598-49D5-9100-3425ECE85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7AD4A-8283-4E6C-8004-85023984A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FC3F1-0BEC-4CC7-96A4-00CAEE8F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BCB22-4C7C-4208-BC57-BACB95198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3B1E8-5477-49FC-9F4A-DE5384AF9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7FB27-7891-4918-8C90-D1665CCAE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783E4-4F9D-49C5-AA69-7EA410D65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08585-48A0-4BA6-AABE-E441B56DA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F89CA-C629-4692-BF65-8EA5C278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DC13-B7B2-45AB-B078-B5FD75F55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A3B92-5642-4BB3-9C45-01FBA4FA5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6D910-9937-4881-8F7F-02A8EAAAF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8BE7C-4D19-42CA-9E37-DCB6D6E99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2AEA-CF9E-472C-8911-121830959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0A15-30EC-4B56-B826-790161502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976A-49CB-4E87-8ECA-640CE6B285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7BC8-233E-4F96-83EB-33AB5D0D3C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dward.mcgrath@redclay.k12.de.u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ccsecondaryscience.wikispaces.co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ki.doe.k12.de.u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Arial"/>
              </a:rPr>
              <a:t>Secondary Science in Red Clay</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istration for kit training (middle school)</a:t>
            </a:r>
            <a:endParaRPr b="0" lang="en-US" sz="3800" spc="-1" strike="noStrike">
              <a:solidFill>
                <a:srgbClr val="330033"/>
              </a:solidFill>
              <a:latin typeface="Times New Roman"/>
            </a:endParaRPr>
          </a:p>
        </p:txBody>
      </p:sp>
      <p:sp>
        <p:nvSpPr>
          <p:cNvPr id="122" name="PlaceHolder 2"/>
          <p:cNvSpPr>
            <a:spLocks noGrp="1"/>
          </p:cNvSpPr>
          <p:nvPr>
            <p:ph/>
          </p:nvPr>
        </p:nvSpPr>
        <p:spPr>
          <a:xfrm>
            <a:off x="914400" y="1599840"/>
            <a:ext cx="7772400" cy="2971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Eddie McGrath by email that you want to attend the training.  Do </a:t>
            </a:r>
            <a:r>
              <a:rPr b="0" lang="en-US" sz="2800" spc="-1" strike="noStrike" u="sng">
                <a:solidFill>
                  <a:srgbClr val="000000"/>
                </a:solidFill>
                <a:uFillTx/>
                <a:latin typeface="Arial"/>
              </a:rPr>
              <a:t>not</a:t>
            </a:r>
            <a:r>
              <a:rPr b="0" lang="en-US" sz="2800" spc="-1" strike="noStrike">
                <a:solidFill>
                  <a:srgbClr val="000000"/>
                </a:solidFill>
                <a:latin typeface="Arial"/>
              </a:rPr>
              <a:t> register through DS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e training, I will email you specific instructions for E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Kit Delivery/Pick-up Schedule:</a:t>
            </a:r>
            <a:endParaRPr b="0" lang="en-US" sz="3600" spc="-1" strike="noStrike">
              <a:solidFill>
                <a:srgbClr val="330033"/>
              </a:solidFill>
              <a:latin typeface="Times New Roman"/>
            </a:endParaRPr>
          </a:p>
        </p:txBody>
      </p:sp>
      <p:sp>
        <p:nvSpPr>
          <p:cNvPr id="124" name="PlaceHolder 2"/>
          <p:cNvSpPr>
            <a:spLocks noGrp="1"/>
          </p:cNvSpPr>
          <p:nvPr>
            <p:ph/>
          </p:nvPr>
        </p:nvSpPr>
        <p:spPr>
          <a:xfrm>
            <a:off x="990720" y="914040"/>
            <a:ext cx="7772400" cy="5791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s will be delivered three times during the school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livery: August 28,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ick-up:  December 12,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delivery:  December 19,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ick-up:  March 12, 20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delivery:  March 19, 20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FINAL) pick-up:  June 10, 20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914400" y="914400"/>
            <a:ext cx="7620120" cy="22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unit trainings:</a:t>
            </a:r>
            <a:br>
              <a:rPr sz="28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s are held at Collette Center in Dover DE.  Trainings last four days for six hours each.  Teachers are expected to attend all four days for the entir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a:rPr>
              <a:t>Procedure for registration (high school only):</a:t>
            </a:r>
            <a:endParaRPr b="0" lang="en-US" sz="38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Eddie that you want to be registered for a training session.  I will reserve a place in the class.  Do </a:t>
            </a:r>
            <a:r>
              <a:rPr b="0" lang="en-US" sz="2400" spc="-1" strike="noStrike" u="sng">
                <a:solidFill>
                  <a:srgbClr val="000000"/>
                </a:solidFill>
                <a:uFillTx/>
                <a:latin typeface="Arial"/>
              </a:rPr>
              <a:t>not</a:t>
            </a:r>
            <a:r>
              <a:rPr b="0" lang="en-US" sz="2400" spc="-1" strike="noStrike">
                <a:solidFill>
                  <a:srgbClr val="000000"/>
                </a:solidFill>
                <a:latin typeface="Arial"/>
              </a:rPr>
              <a:t> register through DSC.</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receive email confirmation from me, with a copy to your principal indicating the dates of training.</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 Professional Absence Request for each day of training, indicating the dates you will be absent from school.  When I send you confirmation (by email), I will give you specific details (funding program, comments) to en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914400" y="533520"/>
            <a:ext cx="7772400" cy="4419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Materia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materials were delivered to all high schools over the years, and because individual schools may have different needs, high schools will order materials for the units according to their own needs.  Materials lists for all the Coalition units are availabe.  Contact Eddie McGrath for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756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Black"/>
              </a:rPr>
              <a:t>Science Curriculum Council</a:t>
            </a:r>
            <a:endParaRPr b="0" lang="en-US" sz="4200" spc="-1" strike="noStrike">
              <a:solidFill>
                <a:srgbClr val="330033"/>
              </a:solidFill>
              <a:latin typeface="Times New Roman"/>
            </a:endParaRPr>
          </a:p>
        </p:txBody>
      </p:sp>
      <p:sp>
        <p:nvSpPr>
          <p:cNvPr id="13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s second Tuesday of each month (first meeting is Sept 11) in Conrad library from 4:00-6:00.</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lementary and secondary schools are represen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 are public—any teachers may co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new business is on district intr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And finally…</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die McGrath is a </a:t>
            </a:r>
            <a:r>
              <a:rPr b="0" lang="en-US" sz="2800" spc="-1" strike="noStrike" u="sng">
                <a:solidFill>
                  <a:srgbClr val="000000"/>
                </a:solidFill>
                <a:uFillTx/>
                <a:latin typeface="Arial"/>
              </a:rPr>
              <a:t>resource</a:t>
            </a:r>
            <a:r>
              <a:rPr b="0" lang="en-US" sz="2800" spc="-1" strike="noStrike">
                <a:solidFill>
                  <a:srgbClr val="000000"/>
                </a:solidFill>
                <a:latin typeface="Arial"/>
              </a:rPr>
              <a:t> for science teachers.  I will work with teachers in the classroom, model teaching practices, assist with providing materials (as possible), and assist teachers with Vernier probe 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available to meet with teachers at their convenience.  Feel free to call my cell phone or email me if there is any way I can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Science Supervisor</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ward McGrath (Edd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Edward.mcgrath@redclay.k12.de.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  367-557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02" name=""/>
          <p:cNvSpPr txBox="1"/>
          <p:nvPr/>
        </p:nvSpPr>
        <p:spPr>
          <a:xfrm>
            <a:off x="914400" y="1600200"/>
            <a:ext cx="7772400" cy="9144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Red Clay intranet, accessing science resour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Picture 3" descr=""/>
          <p:cNvPicPr/>
          <p:nvPr/>
        </p:nvPicPr>
        <p:blipFill>
          <a:blip r:embed="rId1"/>
          <a:srcRect l="13328" t="14278" r="27339" b="55860"/>
          <a:stretch/>
        </p:blipFill>
        <p:spPr>
          <a:xfrm>
            <a:off x="380880" y="3733920"/>
            <a:ext cx="8137800" cy="2560680"/>
          </a:xfrm>
          <a:prstGeom prst="rect">
            <a:avLst/>
          </a:prstGeom>
          <a:ln w="0">
            <a:noFill/>
          </a:ln>
        </p:spPr>
      </p:pic>
      <p:sp>
        <p:nvSpPr>
          <p:cNvPr id="104" name="TextBox 3"/>
          <p:cNvSpPr/>
          <p:nvPr/>
        </p:nvSpPr>
        <p:spPr>
          <a:xfrm>
            <a:off x="3200400" y="2666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here</a:t>
            </a:r>
            <a:endParaRPr b="0" lang="en-US" sz="1800" spc="-1" strike="noStrike">
              <a:solidFill>
                <a:srgbClr val="000000"/>
              </a:solidFill>
              <a:latin typeface="Arial"/>
            </a:endParaRPr>
          </a:p>
        </p:txBody>
      </p:sp>
      <p:cxnSp>
        <p:nvCxnSpPr>
          <p:cNvPr id="105" name="Straight Arrow Connector 5"/>
          <p:cNvCxnSpPr/>
          <p:nvPr/>
        </p:nvCxnSpPr>
        <p:spPr>
          <a:xfrm flipH="1">
            <a:off x="3809880" y="3036600"/>
            <a:ext cx="76680" cy="1230840"/>
          </a:xfrm>
          <a:prstGeom prst="straightConnector1">
            <a:avLst/>
          </a:prstGeom>
          <a:ln w="1047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pic>
        <p:nvPicPr>
          <p:cNvPr id="107" name="Picture 2" descr=""/>
          <p:cNvPicPr/>
          <p:nvPr/>
        </p:nvPicPr>
        <p:blipFill>
          <a:blip r:embed="rId1"/>
          <a:srcRect l="16659" t="4271" r="20005" b="50934"/>
          <a:stretch/>
        </p:blipFill>
        <p:spPr>
          <a:xfrm>
            <a:off x="304920" y="3011400"/>
            <a:ext cx="8686800" cy="3465720"/>
          </a:xfrm>
          <a:prstGeom prst="rect">
            <a:avLst/>
          </a:prstGeom>
          <a:ln w="0">
            <a:noFill/>
          </a:ln>
        </p:spPr>
      </p:pic>
      <p:sp>
        <p:nvSpPr>
          <p:cNvPr id="108" name="TextBox 3"/>
          <p:cNvSpPr/>
          <p:nvPr/>
        </p:nvSpPr>
        <p:spPr>
          <a:xfrm>
            <a:off x="2209680" y="16765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click here (Publications)</a:t>
            </a:r>
            <a:endParaRPr b="0" lang="en-US" sz="1800" spc="-1" strike="noStrike">
              <a:solidFill>
                <a:srgbClr val="000000"/>
              </a:solidFill>
              <a:latin typeface="Arial"/>
            </a:endParaRPr>
          </a:p>
        </p:txBody>
      </p:sp>
      <p:cxnSp>
        <p:nvCxnSpPr>
          <p:cNvPr id="109" name="Straight Arrow Connector 5"/>
          <p:cNvCxnSpPr/>
          <p:nvPr/>
        </p:nvCxnSpPr>
        <p:spPr>
          <a:xfrm>
            <a:off x="3047760" y="2133360"/>
            <a:ext cx="1080" cy="2515320"/>
          </a:xfrm>
          <a:prstGeom prst="straightConnector1">
            <a:avLst/>
          </a:prstGeom>
          <a:ln w="117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  (almost there!)</a:t>
            </a:r>
            <a:endParaRPr b="0" lang="en-US" sz="4200" spc="-1" strike="noStrike">
              <a:solidFill>
                <a:srgbClr val="330033"/>
              </a:solidFill>
              <a:latin typeface="Times New Roman"/>
            </a:endParaRPr>
          </a:p>
        </p:txBody>
      </p:sp>
      <p:sp>
        <p:nvSpPr>
          <p:cNvPr id="111" name="TextBox 3"/>
          <p:cNvSpPr/>
          <p:nvPr/>
        </p:nvSpPr>
        <p:spPr>
          <a:xfrm>
            <a:off x="6553080" y="434340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his link (secondary science)</a:t>
            </a:r>
            <a:endParaRPr b="0" lang="en-US" sz="1800" spc="-1" strike="noStrike">
              <a:solidFill>
                <a:srgbClr val="000000"/>
              </a:solidFill>
              <a:latin typeface="Arial"/>
            </a:endParaRPr>
          </a:p>
        </p:txBody>
      </p:sp>
      <p:pic>
        <p:nvPicPr>
          <p:cNvPr id="112" name="Picture 6" descr=""/>
          <p:cNvPicPr/>
          <p:nvPr/>
        </p:nvPicPr>
        <p:blipFill>
          <a:blip r:embed="rId1"/>
          <a:srcRect l="23988" t="20960" r="32813" b="8401"/>
          <a:stretch/>
        </p:blipFill>
        <p:spPr>
          <a:xfrm>
            <a:off x="1447920" y="1066680"/>
            <a:ext cx="4495680" cy="5513400"/>
          </a:xfrm>
          <a:prstGeom prst="rect">
            <a:avLst/>
          </a:prstGeom>
          <a:ln w="0">
            <a:noFill/>
          </a:ln>
        </p:spPr>
      </p:pic>
      <p:cxnSp>
        <p:nvCxnSpPr>
          <p:cNvPr id="113" name="Straight Arrow Connector 5"/>
          <p:cNvCxnSpPr/>
          <p:nvPr/>
        </p:nvCxnSpPr>
        <p:spPr>
          <a:xfrm flipH="1">
            <a:off x="4876200" y="4495320"/>
            <a:ext cx="1524600" cy="57960"/>
          </a:xfrm>
          <a:prstGeom prst="straightConnector1">
            <a:avLst/>
          </a:prstGeom>
          <a:ln w="698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Clay Secondary Science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rccsecondaryscience.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4" descr=""/>
          <p:cNvPicPr/>
          <p:nvPr/>
        </p:nvPicPr>
        <p:blipFill>
          <a:blip r:embed="rId2"/>
          <a:srcRect l="0" t="10666" r="0" b="5333"/>
          <a:stretch/>
        </p:blipFill>
        <p:spPr>
          <a:xfrm>
            <a:off x="990720" y="2666880"/>
            <a:ext cx="76197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914400" y="304560"/>
            <a:ext cx="7772400" cy="58258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Clay science wiki provides resources for science teachers in alignment with the Delaware Science Standards and the Coalition kits.  It also provid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 of teachers at each grade level and content are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fety resources (including the safety contrac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Council new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ho join can upload resources to share.  This wiki can be accessed 24-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ware Science Coalition wik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iki.doe.k12.de.u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ki” provides useful resources for the science units through the Coalition, including student guides and teacher guides for selected units.  This wiki can only be accessed from a Delaware public school (not 24-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Arial"/>
              </a:rPr>
              <a:t>Professional Development and Kits</a:t>
            </a:r>
            <a:endParaRPr b="0" lang="en-US" sz="3600" spc="-1" strike="noStrike">
              <a:solidFill>
                <a:srgbClr val="330033"/>
              </a:solidFill>
              <a:latin typeface="Times New Roman"/>
            </a:endParaRPr>
          </a:p>
        </p:txBody>
      </p:sp>
      <p:sp>
        <p:nvSpPr>
          <p:cNvPr id="120" name="PlaceHolder 2"/>
          <p:cNvSpPr>
            <a:spLocks noGrp="1"/>
          </p:cNvSpPr>
          <p:nvPr>
            <p:ph/>
          </p:nvPr>
        </p:nvSpPr>
        <p:spPr>
          <a:xfrm>
            <a:off x="838080" y="2438280"/>
            <a:ext cx="777240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School:  Science kit trainings will be held after school (4:00-7:00) at various locations in Red Clay or Colonial School District.  Teachers must complete training to receive a k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ill receive EPER for all hours tr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20:32:48Z</dcterms:created>
  <dc:creator>Edward McGrath</dc:creator>
  <dc:description/>
  <dc:language>en-US</dc:language>
  <cp:lastModifiedBy>Edward J McGrath</cp:lastModifiedBy>
  <dcterms:modified xsi:type="dcterms:W3CDTF">2012-08-30T12:52:25Z</dcterms:modified>
  <cp:revision>14</cp:revision>
  <dc:subject/>
  <dc:title>Secondary Science in Red Clay</dc:title>
</cp:coreProperties>
</file>